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530-CB35-4A38-B66B-9D0209AF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013-1AA7-4166-BB7A-246612EB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2C3-4E91-496D-9636-D566EACA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A80-CF02-49E9-8155-2E697913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C2D-A5FF-4FE4-B48B-8627B28D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5B0-7339-42E4-8AA2-0D93D64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E86-1B43-44AA-9521-7B9632B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BDB-0DF3-4B12-B6B1-B2A498E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DA6-32C3-4EF1-AD6A-8BACA089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C96-995B-4D1C-AE01-133A575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47F-9D30-4966-A0D5-46579DEE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63B-D786-4B51-B3A0-AE7B921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D8F5-8D6B-4488-922C-67756CF2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s se balancent dans le p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48320" y="9144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ls jouent dans le p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 sort de sa ma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s en ville a dit bonjour à son 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8:36Z</dcterms:created>
  <dc:creator>CVJH-LAB</dc:creator>
  <dc:description/>
  <dc:language>en-US</dc:language>
  <cp:lastModifiedBy>nield411</cp:lastModifiedBy>
  <dcterms:modified xsi:type="dcterms:W3CDTF">2008-02-27T04:41:08Z</dcterms:modified>
  <cp:revision>5</cp:revision>
  <dc:subject/>
  <dc:title> </dc:title>
</cp:coreProperties>
</file>